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67D-9736-4359-81AA-CF13C5176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might be confusing. Still working o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C1E-8FC3-4DAA-9402-EF6B976E1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o say ll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ur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B5A4-3667-4C9D-B31A-967BA19A1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eat a steak and all that protein what is the difference b/w the protein we eat and the protein we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we eat is broken up into AA that our cells use to make  mor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75EA-FD6F-491A-BF51-FA2742413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ckle cell will reproduce a new sickle cell. More common in african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AF55-BABD-47A8-B3D0-E595895D9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ic acid- stores cellular information in cells in form of a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2BE-9933-4858-814C-737701383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 bring book out of library. Make copies of pages you need. Leave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D06-1804-4A39-8823-B3A09EE25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replication Purpose- Double number of chromosomes for mit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cription purpose- bring message to the ribosome to mak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BE7-A9F7-4943-8C44-0FD93AE36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ED6-6FEB-450F-88E2-AF424682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81E-2A50-49F7-8A8A-619C0A5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1E2-ABE4-422C-B6A1-14BFDF26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1FC-9B34-4E95-8A94-375A9052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F548-98F9-4A5F-8024-28BE8B2B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623-BA41-4BDB-83B5-517B2F4D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EE94-427B-47ED-A759-779468F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DAA-21A8-470D-8851-510718FD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71F1-AF0D-4DA3-BE49-1052DD56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08D2-86E3-4E1D-8C1B-65CB278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A613-F87E-4BCC-9AC0-6786D68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81A-4700-418D-AF0C-6FABE40F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D58-189B-49ED-9832-6297507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0122-7D3D-494F-B95B-375E39F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BC4F-FB87-421D-834D-99F829C0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770-54EF-4202-95C5-447C9E64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58A7-AE21-4403-9F22-A1E05EF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8FB8B-D135-4E20-9AA5-7D25CFCF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E5EC3-FADB-400C-B850-A0EB272F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FB07C-8BC2-4482-8A73-9C33CA0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869CA-C545-440E-A52A-5C1F843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50381-842E-452E-B53F-FF98D3D5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3F6-361F-4DFE-A161-9D1E56F4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7AE05-8EA1-4AED-9206-D210C1B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DDBFB-E505-4CA7-9879-0E500E8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FE10B-D939-4E00-99A6-47E5BC3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0C260-C07F-465F-B8CA-20FB459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25071-5732-4C72-BF87-9FACA30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6FD99-B715-40CC-BA82-1E29A070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27F76-9624-4336-94B0-D5491742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ABC8-0B08-4AD5-A5AA-F60DF26E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5F52-8E95-4709-896D-3475293D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A0E3F-3E0C-4A40-8042-B62E675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84B-1D00-4897-8151-423922B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64A1-4420-4D0F-B8FB-64DCB43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EE4A-4A7B-4B36-A6BF-EE4C0518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DBEB-2671-4956-95FB-A389A880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5A67-5F2F-44A1-B459-3A65C9D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482B-C108-42DE-8D50-0E84058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CD8F-ED89-4A19-AECD-A50036D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1C45-59EB-4B1A-B1B3-0392104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1F05-A0A4-4F45-8674-D73814D6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9118-2DF4-45A6-B9B2-873A4C86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445-CA5C-4A6B-AFCA-523A080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AE4-1C48-4091-ADF5-C74E6E7C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CE3-22F1-45E9-B179-2C19F8BF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E23-5E3B-4FEB-819E-9B0CE1E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901-5DBF-4507-84EB-75999E3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8D2C-FCA6-4DA8-AE9B-93B1E157D70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315A-84BB-4FE7-B41F-322B4464424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E945-D4CC-4CAC-BF3B-1CFB1D8878B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CF5F-1030-4844-9DDE-73BC52629F8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From DNA to Protein (11.2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tic Code “Alphabet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7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Content Placeholder 6" descr=""/>
          <p:cNvPicPr/>
          <p:nvPr/>
        </p:nvPicPr>
        <p:blipFill>
          <a:blip r:embed="rId1"/>
          <a:stretch/>
        </p:blipFill>
        <p:spPr>
          <a:xfrm>
            <a:off x="-12600" y="371520"/>
            <a:ext cx="9175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ranslation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mRNA</a:t>
            </a:r>
            <a:r>
              <a:rPr b="0" lang="en-US" sz="3600" spc="-1" strike="noStrike">
                <a:solidFill>
                  <a:srgbClr val="424456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protein) p.294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curs in the cytoplasm at the rib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RNA attaches to ribosome. tRNA (carrying a specific AA) approaches ribos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NA (anticodon) attaches with mRNA (cod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ew tRNA molecule attaches next to previous tRNA molecule and AA from each tRNA bond together (peptide bo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bosome slides down mRNA molecule to allow a new tRNA to attach. Old tRNA molecules are releas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long chain of AA is for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in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otein Synthesis Anim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o it yourself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is a Protein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lex, 3-dimensional structures made from chains of amino aci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gulate cell fun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duced at the ribosom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: Blood contains red blood cells (RBC) that transport oxygen to different parts of our bodi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BC’s use a protein called “hemoglobin” to capture and carry the oxyge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the instructions (DNA) are changed or “mutated” changes in the hemoglobin protein could result. The RBCwould no longer be able to carry oxygen (Sickle Cell Anemia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89960" cy="53845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91440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ckle Cell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are proteins made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tein Synthe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NA (Ribose Nucleic Aci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w does RNA differ from DNA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ngle stranded (half-zipper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sugar in RNA is ribose (DNA has deoxyribos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stead of Thymine (T), RNA contains Uracil (U) in RN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denine (A) pairs with Uracil (U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 types of RN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ssenger RNA (mR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ngs instructions from DNA in the nucleus to the cytopla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bosomal RNA (rR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nds to the mRNA and uses instructions to assemble the amino acids in the correct or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fer RNA (tR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Supplier. Delivers amino acids to the ribosome to be assembled into a protein. (amino acid delivery truck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ranscription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DNA</a:t>
            </a:r>
            <a:r>
              <a:rPr b="0" lang="en-US" sz="3600" spc="-1" strike="noStrike">
                <a:solidFill>
                  <a:srgbClr val="424456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RNA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zyme unzips DNA molecu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 RNA nucleotides form with complementary base pair (G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 and 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w mRNA strand leaves nucleus  and enters the cytoplasm (finds riboso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stolaf.edu/people/giannini/flashanimat/molgenetics/transcription.sw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NA replication vs. Transcri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uble stranded DN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Purpose?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ngle stranded RN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Purpose?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tic Co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 nitrogenous bases of mRNA code for one Amino Ac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group is known as a cod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: The codon GCU results in the amino acid Alanin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4 combinations are possible when using  a sequence of 3 nitrogenous bas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iversal Code for all organis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5:07:24Z</dcterms:created>
  <dc:creator>Registered User</dc:creator>
  <dc:description/>
  <dc:language>en-US</dc:language>
  <cp:lastModifiedBy>Registered User</cp:lastModifiedBy>
  <dcterms:modified xsi:type="dcterms:W3CDTF">2009-01-29T15:11:53Z</dcterms:modified>
  <cp:revision>13</cp:revision>
  <dc:subject/>
  <dc:title>From DNA to Protein (11.2)</dc:title>
</cp:coreProperties>
</file>